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BF4C-C4ED-4517-A2F5-3471BAD9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9E14-21C3-48A9-9FA2-A1CF9AD0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9FB-6A73-448E-8661-3D5C34BB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320-D255-4E32-B98D-2810C946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E5E-52E1-4BCD-A743-E02777D3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DDA0-9FA5-4475-9B34-10CFE685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3EC-29F3-44D4-AACC-050F60B5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A5C2-EB3D-481F-B7CB-5A5AA4B1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0E5C-03FD-4544-8D8E-683B9866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AD9-7698-496E-BB8E-E5B68527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4ACE-CE05-44C7-A541-D39A0565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AE3A-2199-4661-8F7E-00CBD0A8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8B4A-6370-4100-8A27-FEB753EFE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87 Ráč prísť k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u prav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prísť k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u pravd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 svoju daruj n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túžbou našou navž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kráčať k nebe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ŕdc nám vlievaj stál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javný lásky ži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nauč obeť chvál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sť vždy ti na oltá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zmätok, blud sa šír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zmáha vôkol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pridaj, Pane, vie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zmužilosti v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svojmu ľudu sil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celú Ducha zbr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bdelosť v každej chví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dobrý je náš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na Turíce nové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s denne pripravu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k v skutku ako v slov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vidíš náprav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trpezlivosť v kríž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láske stálosť praj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tvoj sa rýchlo blíž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v pravde zachova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1-01-05T10:03:44Z</dcterms:modified>
  <cp:revision>13</cp:revision>
  <dc:subject/>
  <dc:title>Je veľký náš Pán, on slávy je Kráľ Nech do všetkých strán  spev vrúcnych znie chvál.</dc:title>
</cp:coreProperties>
</file>